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6B67-464D-4546-B95B-1E8950FA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47F6-BC39-4F22-869B-FCBE93EF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BCE6-96FF-446B-A88D-4F6AA254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296F-94EF-4BDC-AF75-6379E3E6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0BD0-6B8F-4977-9964-AE5C9871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FF02-8094-43BE-B904-941C7005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70F2-C129-4485-BAE7-3AA0A86E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9849-9C4B-4D3A-8215-B42AF2B8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F1C8-C3F9-4C28-BF2A-A26A50A7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5EFC-CBDC-447F-9291-C0F2B7C7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5734-443E-4AA7-B586-58AE9E88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2EEB-6875-47B7-B715-A8704840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565D-19B9-44E7-A96F-01A9F85B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1B7F-2855-461B-94DC-84ADC931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8203-6811-4C04-92F3-251EB478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D7A6-899C-4491-895C-A49FF359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E971-09DA-4EA9-B0B4-E9AD332F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6AE9-8E7A-4D33-ABFB-9C4A6ED0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C27F-F7FD-4371-AF5A-64889744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32F8-8E07-4C73-83C1-B8F36FE6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062F-405B-4969-A1C3-44416216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7455-CB69-40D7-85FF-34FB491F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9CA2-956C-43F9-90F4-A8E74C83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2650-A27A-4802-A5C7-418D8F78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720B-A192-4CC7-B06A-D32A121E97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5BDB-4788-4D2A-BF45-B9FB26E319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ive Presentations Ski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86200" y="762120"/>
            <a:ext cx="1600200" cy="1253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nning Your Pres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e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ss Your Aud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 depends on your ability to reach your audience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ograph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nning A Pres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93760"/>
            <a:ext cx="784872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9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Se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ting Arran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o/Visual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ac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9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Day and Tim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Day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2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Planning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9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Main Points (2-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i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are Out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random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zing Your Pres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Organizational Patt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p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ronologic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/S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/Eff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sentatio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word Remin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ation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sponsive to Aud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t 3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resentation Sequ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 advTm="10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#1: Build Rapport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 marked by harmony or affin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ence members who trust you and feel that you c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rt Before You Beg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gle; Learn 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portunity to reinforce or correct audience assess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irst Imp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 Listen To People They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620120" y="5181480"/>
            <a:ext cx="969840" cy="1295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282680" cy="1371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#2: Opening Your Present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421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e Yourself – Why Should They Lis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 Attention, Build More Rapport, Introduce Top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S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ling Stat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Audience Th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ite Particip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 Audience Respon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#2…Completing the Opening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ly Defining Top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Informativ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parameters for content with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Persuasiv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’s the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 ca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’s the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4114800"/>
            <a:ext cx="1633680" cy="1819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#3:  Presenting Main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ints (Solution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Point-Transition-Main Point-Transition-MainPoint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ing Evid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edback &amp; Questions From Aud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ttention to, and Focus on, Audience (Listen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Your 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resentation Sequ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ing Effective Visual A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entation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#4:  Concluding Your Present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 audience that you’re about to cl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rize main po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thing to remember or call-to-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wer qu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624320" y="5715000"/>
            <a:ext cx="57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ell ’em What You Told ‘em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t 4: Effectiv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sentation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 advTm="10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sentation Sty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3 El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cal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50760" indent="-51192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ud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50760" indent="-51192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50760" indent="-51192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50760" indent="-51192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iations From the Norm for Empha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1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4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9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sentation Style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3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9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dy Langu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ye Contact, Gestures, Pos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9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Everyone See Y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1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9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2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5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al fill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”, “uh”, “lik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unrelated word or phr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aying, rocking, and pac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s in pock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p smac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dg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ilure to be audience-cent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random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5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3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8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8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3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 Presentation T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eat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sh On Or Unde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random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t 5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Effective Visual Ai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sual Ai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22160" y="2209680"/>
            <a:ext cx="842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hance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Varie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Clai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ting Imp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Poorly…A Distraction…Ineffective 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random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sual Aids -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2160" y="2209680"/>
            <a:ext cx="8421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Point Sl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head Tr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s/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ms/Vid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ip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ketch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sual Aids Should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lement 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line of main po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 audience’s needs, not speaker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e and cle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Great speakers aren’t born, they are trained.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ing is a Skill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ed through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train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n Point 1:  The Purpose of Using Visual Ai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 aids support your ideas and improve audience comprehension of your 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 aids add variety to your presentation by giving the audience a break from listening and letting the se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 aids help illustrate complex ideas or concepts and are helpful in reinforcing you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sual A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2017800"/>
            <a:ext cx="834552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rove 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vari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complex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 Vi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tles should be 38-44 pt. font s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 should be 28 pt font s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color w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sting col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random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#1 Fe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9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ared More Than Death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ACTS: Shaky hands, blushing cheeks, memory loss, nausea, and knocking kne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RMAL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05520" y="4343400"/>
            <a:ext cx="1768320" cy="1795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934320" y="228600"/>
            <a:ext cx="1496880" cy="1523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uses of the Anxie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ar of the Unknown OR Loss of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ght or Flight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Backup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Enthusiasm For Su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f At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finition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thing set forth to an audience for the attention of the mind 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ff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ing a desired resul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ive Pres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Anxiety – Don’t Fight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dience Cent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omplishes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 For Aud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 For Y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ucted Within Tim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Give A Presenta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Main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u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uc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t 2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nning Your Pres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 advTm="1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5:14:38Z</dcterms:created>
  <dc:creator/>
  <dc:description/>
  <dc:language>en-US</dc:language>
  <cp:lastModifiedBy>system8</cp:lastModifiedBy>
  <dcterms:modified xsi:type="dcterms:W3CDTF">2008-08-05T07:37:23Z</dcterms:modified>
  <cp:revision>62</cp:revision>
  <dc:subject/>
  <dc:title/>
</cp:coreProperties>
</file>